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E9FB-774C-40FB-BCAF-0C9C34D69E4D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AB5B-31B1-4DF8-A652-2847EE3357B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D57B-7168-4E72-B557-BA8EFF52428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CDD5-665C-49AB-936F-9590D25E27DD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58DD-BA46-4018-B4AE-80797098A59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21C0-CC9D-4186-AAAC-883DF959F850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666F-D445-4562-9FCA-D0438BAB5420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104A-910B-460F-87D8-42BF0317004C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36E0-6F1C-4810-A703-46066FEC034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1540-30A7-4E00-B3EF-C57E74C5F13E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4C96-2CDF-413B-9905-145B1A94C6AE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5DCB-ED10-496F-B145-0C581AE27DC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168A-BB94-46CE-891F-CCC6E1DF65A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C593-5D15-40C0-ADBF-D1013935633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96BF-7B3C-479E-923C-FD01BBEE163D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C696-9712-4B7A-BEE4-76D770C4477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AE0-C38E-44A2-8202-05B1FF55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4AD-E6A5-4588-A0F1-D1E365A4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7D60-DBA1-4078-8496-049FF03E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533-9BE2-42F9-8ACF-26E33BC8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E3D3-FDAE-4CA7-97F3-86523546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2B8-3FB7-4903-B79A-29EBFC8F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3A2-C85F-4DD5-91B7-09AFB612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B1CF-6B1D-4BEC-A652-0C51A9D1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BADD-F68F-4F39-A369-A829CB7C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099-E495-46C5-AF92-5AE61817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F353-2F93-47A9-9F42-9DE597DA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61B-16DB-4028-A1B0-55170557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85AA-61B1-48DC-85EC-F20E5CD10E78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Amy_-_mosiac_Small_Web_view.jpg"/>
          <p:cNvPicPr/>
          <p:nvPr/>
        </p:nvPicPr>
        <p:blipFill>
          <a:blip r:embed="rId1"/>
          <a:stretch/>
        </p:blipFill>
        <p:spPr>
          <a:xfrm>
            <a:off x="2411280" y="1125360"/>
            <a:ext cx="4064040" cy="3035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95280" y="4653000"/>
            <a:ext cx="849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600" spc="-1" strike="noStrike">
                <a:solidFill>
                  <a:srgbClr val="ff99ff"/>
                </a:solidFill>
                <a:latin typeface="Calibri"/>
              </a:rPr>
              <a:t>Students with Camera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pic_manager_6.png"/>
          <p:cNvPicPr/>
          <p:nvPr/>
        </p:nvPicPr>
        <p:blipFill>
          <a:blip r:embed="rId1"/>
          <a:stretch/>
        </p:blipFill>
        <p:spPr>
          <a:xfrm>
            <a:off x="250920" y="981000"/>
            <a:ext cx="8497800" cy="4400640"/>
          </a:xfrm>
          <a:prstGeom prst="rect">
            <a:avLst/>
          </a:prstGeom>
          <a:ln w="0">
            <a:noFill/>
          </a:ln>
        </p:spPr>
      </p:pic>
      <p:sp>
        <p:nvSpPr>
          <p:cNvPr id="73" name="Right Arrow 2"/>
          <p:cNvSpPr/>
          <p:nvPr/>
        </p:nvSpPr>
        <p:spPr>
          <a:xfrm>
            <a:off x="6300720" y="4005360"/>
            <a:ext cx="1366920" cy="576000"/>
          </a:xfrm>
          <a:prstGeom prst="rightArrow">
            <a:avLst>
              <a:gd name="adj1" fmla="val 50000"/>
              <a:gd name="adj2" fmla="val 4995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468360" y="260280"/>
            <a:ext cx="792000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Select the part of the picture you want to retain and Click 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Pic_manager_7_.png"/>
          <p:cNvPicPr/>
          <p:nvPr/>
        </p:nvPicPr>
        <p:blipFill>
          <a:blip r:embed="rId1"/>
          <a:stretch/>
        </p:blipFill>
        <p:spPr>
          <a:xfrm>
            <a:off x="1187280" y="1628640"/>
            <a:ext cx="6897960" cy="128592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1258920" y="476280"/>
            <a:ext cx="259236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ight Arrow 3"/>
          <p:cNvSpPr/>
          <p:nvPr/>
        </p:nvSpPr>
        <p:spPr>
          <a:xfrm>
            <a:off x="755640" y="1844640"/>
            <a:ext cx="1368360" cy="4320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826920" y="386064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If you want to use the original photos again, make a cop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Pic_manager_4.png"/>
          <p:cNvPicPr/>
          <p:nvPr/>
        </p:nvPicPr>
        <p:blipFill>
          <a:blip r:embed="rId1"/>
          <a:stretch/>
        </p:blipFill>
        <p:spPr>
          <a:xfrm>
            <a:off x="6875640" y="692280"/>
            <a:ext cx="1535040" cy="39067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324000" y="836640"/>
            <a:ext cx="6264000" cy="131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alibri"/>
              </a:rPr>
              <a:t>Try the other editing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324000" y="4653000"/>
            <a:ext cx="79930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If you want to upload photos to the web, wiki, blog or  email, it’s good to </a:t>
            </a:r>
            <a:r>
              <a:rPr b="1" lang="en-NZ" sz="2400" spc="-1" strike="noStrike">
                <a:solidFill>
                  <a:srgbClr val="000000"/>
                </a:solidFill>
                <a:latin typeface="Calibri"/>
              </a:rPr>
              <a:t>Compress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 your photos before you 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is means they will upload / download more quickly</a:t>
            </a: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684360" y="260280"/>
            <a:ext cx="4103640" cy="149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alibri"/>
              </a:rPr>
              <a:t>Compressing Pho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alibri"/>
              </a:rPr>
              <a:t>CTRL A = Select 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Pic_manager_8.png"/>
          <p:cNvPicPr/>
          <p:nvPr/>
        </p:nvPicPr>
        <p:blipFill>
          <a:blip r:embed="rId1"/>
          <a:stretch/>
        </p:blipFill>
        <p:spPr>
          <a:xfrm>
            <a:off x="324000" y="1341360"/>
            <a:ext cx="8313480" cy="3038400"/>
          </a:xfrm>
          <a:prstGeom prst="rect">
            <a:avLst/>
          </a:prstGeom>
          <a:ln w="0">
            <a:noFill/>
          </a:ln>
        </p:spPr>
      </p:pic>
      <p:sp>
        <p:nvSpPr>
          <p:cNvPr id="84" name="Right Arrow 3"/>
          <p:cNvSpPr/>
          <p:nvPr/>
        </p:nvSpPr>
        <p:spPr>
          <a:xfrm>
            <a:off x="5292720" y="3860640"/>
            <a:ext cx="2087640" cy="5763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Calibri"/>
              </a:rPr>
              <a:t>Compr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Pic_manager_9.png"/>
          <p:cNvPicPr/>
          <p:nvPr/>
        </p:nvPicPr>
        <p:blipFill>
          <a:blip r:embed="rId1"/>
          <a:stretch/>
        </p:blipFill>
        <p:spPr>
          <a:xfrm>
            <a:off x="3492360" y="549360"/>
            <a:ext cx="1791000" cy="4829040"/>
          </a:xfrm>
          <a:prstGeom prst="rect">
            <a:avLst/>
          </a:prstGeom>
          <a:ln w="0">
            <a:noFill/>
          </a:ln>
        </p:spPr>
      </p:pic>
      <p:sp>
        <p:nvSpPr>
          <p:cNvPr id="86" name="Right Arrow 2"/>
          <p:cNvSpPr/>
          <p:nvPr/>
        </p:nvSpPr>
        <p:spPr>
          <a:xfrm>
            <a:off x="755640" y="2205000"/>
            <a:ext cx="2448000" cy="71928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Calibri"/>
              </a:rPr>
              <a:t>Select Web P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ight Arrow 3"/>
          <p:cNvSpPr/>
          <p:nvPr/>
        </p:nvSpPr>
        <p:spPr>
          <a:xfrm>
            <a:off x="826920" y="4581360"/>
            <a:ext cx="2160720" cy="71928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Calibri"/>
              </a:rPr>
              <a:t>Click 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684360" y="5661000"/>
            <a:ext cx="655164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Calibri"/>
              </a:rPr>
              <a:t>Remember to SAV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187280" y="549360"/>
            <a:ext cx="684072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0000"/>
                </a:solidFill>
                <a:latin typeface="Andalus"/>
                <a:ea typeface="Andalus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ndalus"/>
                <a:ea typeface="Andalus"/>
              </a:rPr>
              <a:t>Telling a story with photograph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alibri"/>
              </a:rPr>
              <a:t>Boost your teaching - tips for better digital photography.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alibri"/>
              </a:rPr>
              <a:t>The Essential Guide to Digital Photograp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755640" y="620640"/>
            <a:ext cx="6624720" cy="58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0000"/>
                </a:solidFill>
                <a:latin typeface="Andalus"/>
                <a:ea typeface="Andalus"/>
              </a:rPr>
              <a:t>Why take our own photo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Calibri"/>
              </a:rPr>
              <a:t>Copyrigh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Calibri"/>
              </a:rPr>
              <a:t>Ownershi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Calibri"/>
              </a:rPr>
              <a:t>Creativity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187280" y="981000"/>
            <a:ext cx="662472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0000"/>
                </a:solidFill>
                <a:latin typeface="Angsana New"/>
                <a:ea typeface="Angsana New"/>
              </a:rPr>
              <a:t>Task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95959"/>
                </a:solidFill>
                <a:latin typeface="Andalus"/>
                <a:ea typeface="Andalus"/>
              </a:rPr>
              <a:t>Take photos of trees and sho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95959"/>
                </a:solidFill>
                <a:latin typeface="Andalus"/>
                <a:ea typeface="Andalus"/>
              </a:rPr>
              <a:t>Different tex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95959"/>
                </a:solidFill>
                <a:latin typeface="Andalus"/>
                <a:ea typeface="Andalus"/>
              </a:rPr>
              <a:t>Where the leaves join 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95959"/>
                </a:solidFill>
                <a:latin typeface="Andalus"/>
                <a:ea typeface="Andalus"/>
              </a:rPr>
              <a:t>The ba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95959"/>
                </a:solidFill>
                <a:latin typeface="Andalus"/>
                <a:ea typeface="Andalus"/>
              </a:rPr>
              <a:t>How dense the leaf foliage is / sun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95959"/>
                </a:solidFill>
                <a:latin typeface="Andalus"/>
                <a:ea typeface="Andalus"/>
              </a:rPr>
              <a:t>A whole 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1042920" y="836640"/>
            <a:ext cx="720108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ndalus"/>
                <a:ea typeface="Andalus"/>
              </a:rPr>
              <a:t>Task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ndalus"/>
                <a:ea typeface="Andalus"/>
              </a:rPr>
              <a:t>Match your shots with these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Types of camera sho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Close 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Extreme close 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Over the shou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Birds’ ey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Worms’ ey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Long shot (setting sho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Interesting sh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258920" y="1197000"/>
            <a:ext cx="72738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Now Wha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ndalus"/>
                <a:ea typeface="Andalus"/>
              </a:rPr>
              <a:t>Editing Pho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ndalus"/>
                <a:ea typeface="Andalus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ndalus"/>
                <a:ea typeface="Andalus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ndalus"/>
                <a:ea typeface="Andalus"/>
              </a:rPr>
              <a:t>Power Poi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ndalus"/>
                <a:ea typeface="Andalus"/>
              </a:rPr>
              <a:t>Comic Lif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ndalus"/>
                <a:ea typeface="Andalus"/>
              </a:rPr>
              <a:t>5 frame sto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oko Moko Movie.wmv" descr=""/>
          <p:cNvPicPr/>
          <p:nvPr/>
        </p:nvPicPr>
        <p:blipFill>
          <a:blip r:embed="rId1"/>
          <a:stretch/>
        </p:blipFill>
        <p:spPr>
          <a:xfrm>
            <a:off x="-4572000" y="-1712880"/>
            <a:ext cx="18288000" cy="1028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539640" y="836640"/>
            <a:ext cx="7632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Editing Photos on your lapt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7375e"/>
                </a:solidFill>
                <a:latin typeface="Calibri"/>
              </a:rPr>
              <a:t>To find Microsoft Office Picture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Start – All Program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Microsoft Off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Microsoft office To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Picture 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684360" y="3284640"/>
            <a:ext cx="41036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1. Add Picture Shortc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Pic_Manager_1.png"/>
          <p:cNvPicPr/>
          <p:nvPr/>
        </p:nvPicPr>
        <p:blipFill>
          <a:blip r:embed="rId1"/>
          <a:stretch/>
        </p:blipFill>
        <p:spPr>
          <a:xfrm>
            <a:off x="1042920" y="4005360"/>
            <a:ext cx="2737080" cy="207144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5"/>
          <p:cNvCxnSpPr/>
          <p:nvPr/>
        </p:nvCxnSpPr>
        <p:spPr>
          <a:xfrm>
            <a:off x="1979640" y="3789000"/>
            <a:ext cx="7200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Right Arrow 6"/>
          <p:cNvSpPr/>
          <p:nvPr/>
        </p:nvSpPr>
        <p:spPr>
          <a:xfrm>
            <a:off x="0" y="4941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5580000" y="3284640"/>
            <a:ext cx="309564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Find your photos and Click </a:t>
            </a:r>
            <a:r>
              <a:rPr b="1" lang="en-NZ" sz="2400" spc="-1" strike="noStrike">
                <a:solidFill>
                  <a:srgbClr val="000000"/>
                </a:solidFill>
                <a:latin typeface="Calibri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Pic_Manager_2.png"/>
          <p:cNvPicPr/>
          <p:nvPr/>
        </p:nvPicPr>
        <p:blipFill>
          <a:blip r:embed="rId2"/>
          <a:stretch/>
        </p:blipFill>
        <p:spPr>
          <a:xfrm>
            <a:off x="4427640" y="4653000"/>
            <a:ext cx="4221000" cy="1728720"/>
          </a:xfrm>
          <a:prstGeom prst="rect">
            <a:avLst/>
          </a:prstGeom>
          <a:ln w="0">
            <a:noFill/>
          </a:ln>
        </p:spPr>
      </p:pic>
      <p:sp>
        <p:nvSpPr>
          <p:cNvPr id="62" name="Right Arrow 9"/>
          <p:cNvSpPr/>
          <p:nvPr/>
        </p:nvSpPr>
        <p:spPr>
          <a:xfrm>
            <a:off x="6372360" y="6021360"/>
            <a:ext cx="1224000" cy="432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4"/>
          <p:cNvSpPr/>
          <p:nvPr/>
        </p:nvSpPr>
        <p:spPr>
          <a:xfrm>
            <a:off x="395280" y="404640"/>
            <a:ext cx="3313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3. Click Edit Pic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Pic_Manager_3.png"/>
          <p:cNvPicPr/>
          <p:nvPr/>
        </p:nvPicPr>
        <p:blipFill>
          <a:blip r:embed="rId1"/>
          <a:stretch/>
        </p:blipFill>
        <p:spPr>
          <a:xfrm>
            <a:off x="900000" y="981000"/>
            <a:ext cx="1871640" cy="2068560"/>
          </a:xfrm>
          <a:prstGeom prst="rect">
            <a:avLst/>
          </a:prstGeom>
          <a:ln w="0">
            <a:noFill/>
          </a:ln>
        </p:spPr>
      </p:pic>
      <p:sp>
        <p:nvSpPr>
          <p:cNvPr id="65" name="Right Arrow 6"/>
          <p:cNvSpPr/>
          <p:nvPr/>
        </p:nvSpPr>
        <p:spPr>
          <a:xfrm>
            <a:off x="0" y="2421000"/>
            <a:ext cx="1116000" cy="36036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4572000" y="476280"/>
            <a:ext cx="33847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4.  Crop photo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Pic_manager_4.png"/>
          <p:cNvPicPr/>
          <p:nvPr/>
        </p:nvPicPr>
        <p:blipFill>
          <a:blip r:embed="rId2"/>
          <a:stretch/>
        </p:blipFill>
        <p:spPr>
          <a:xfrm>
            <a:off x="5435640" y="1125360"/>
            <a:ext cx="2089080" cy="5316840"/>
          </a:xfrm>
          <a:prstGeom prst="rect">
            <a:avLst/>
          </a:prstGeom>
          <a:ln w="0">
            <a:noFill/>
          </a:ln>
        </p:spPr>
      </p:pic>
      <p:sp>
        <p:nvSpPr>
          <p:cNvPr id="68" name="Right Arrow 9"/>
          <p:cNvSpPr/>
          <p:nvPr/>
        </p:nvSpPr>
        <p:spPr>
          <a:xfrm>
            <a:off x="4067280" y="4365720"/>
            <a:ext cx="1368360" cy="503280"/>
          </a:xfrm>
          <a:prstGeom prst="rightArrow">
            <a:avLst>
              <a:gd name="adj1" fmla="val 50000"/>
              <a:gd name="adj2" fmla="val 5008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pic_manager_5.png"/>
          <p:cNvPicPr/>
          <p:nvPr/>
        </p:nvPicPr>
        <p:blipFill>
          <a:blip r:embed="rId1"/>
          <a:stretch/>
        </p:blipFill>
        <p:spPr>
          <a:xfrm>
            <a:off x="971640" y="981000"/>
            <a:ext cx="7011720" cy="4543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900000" y="333360"/>
            <a:ext cx="6120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alibri"/>
              </a:rPr>
              <a:t>Use the Crop Handl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ight Arrow 4"/>
          <p:cNvSpPr/>
          <p:nvPr/>
        </p:nvSpPr>
        <p:spPr>
          <a:xfrm>
            <a:off x="468360" y="5084640"/>
            <a:ext cx="1224000" cy="505080"/>
          </a:xfrm>
          <a:prstGeom prst="rightArrow">
            <a:avLst>
              <a:gd name="adj1" fmla="val 50000"/>
              <a:gd name="adj2" fmla="val 4989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0:22:27Z</dcterms:created>
  <dc:creator>ICTPD</dc:creator>
  <dc:description/>
  <dc:language>en-US</dc:language>
  <cp:lastModifiedBy>ICTPD</cp:lastModifiedBy>
  <dcterms:modified xsi:type="dcterms:W3CDTF">2010-07-15T00:30:36Z</dcterms:modified>
  <cp:revision>26</cp:revision>
  <dc:subject/>
  <dc:title>Slide 1</dc:title>
</cp:coreProperties>
</file>